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A2DDC-D3D6-42DF-B4CB-1C19F247DD04}" type="slidenum"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our postp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Christchurch hosted the Commonwealth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Black South African nations threatened to boycott the games if the tour in 1973 went a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Robert Muldoon said the National government would welcome a tour of the Springboks to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All Blacks tour to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Black African nations boycott the Montreal Olym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Soweto ri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Commonwealth heads of state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Gleneagles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Rugby Football Union invite Springboks to tour New Zealand in response to Muldoon's attitude towards Keep Politics Out Of 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John Minto national organiser for Halt Against Racist T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19 July Springboks arrived for the 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Gisbo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Molesworth Street, Wellington protest viol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First official series – South Africa played in New Zea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First test in Christ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Second test in Well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hird test in Auck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Teams selected on the bias of race, due to Apartheid, up until thi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Rugby went profes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Apartheid becomes a legal system, under National Government led by Daniel Mal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considered peaceful, prosperous and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“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o Maori, no tour” - petition signed against sending a race-based t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United Nations called for a sporting boycott against South Af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Halt Against Racist Tours was founded by University of Auckl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Rugby Football Union did not select Maori players to tour South Africa up until this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ew Zealand tour to South Africa – multiracial team because Maori were considered as 'honourary whites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 PL UMing HK"/>
              </a:rPr>
              <a:t>Norman Kirk, Labour opposition leader, promised not to interfere with the 1973 Tour in the lead up to the el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761-F705-402A-BA74-C966DD95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C28-B380-4D43-B5C2-D6BB7DBC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4FFA-EF85-4851-B21F-476484BC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E48-6AE6-4866-87C6-A338A005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F955-3346-4F21-A802-9623D6FF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A1F6-10F3-4F0C-ACA4-1235DD7F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F967-477B-4360-86D2-BAF0DA35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E963-4FBE-409D-88AA-203CAE03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7096-178E-4D9F-8431-6E312500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DE36-CE86-4482-880D-007F729E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E22A-0BAC-4B74-8B18-1381178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351-696D-4F6F-B679-E041F3C3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86E8-B6B0-4075-A5CD-DBF9F287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69A1-3F18-4F3B-806E-D971D3AF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A854-4E3D-4F0E-B758-4AF8C08E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C1B6-2BED-449F-945B-19A14352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44ED-E223-4BDB-8405-EA93E4C9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642-CE62-4343-ACE6-99D45FF1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D0D-34D0-4EAB-AF02-5A13538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F051-480A-4194-B0E6-4A6CB8FE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8A2D-3766-40B3-A793-B71FF242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981-7087-4447-A04E-36A2297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393-48F2-4605-A1B5-94D9D649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32B-9C8D-4605-9AE6-86E3E503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7DFF3-0ED2-4208-BFE4-DBD65F5E62B1}" type="slidenum"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7600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05E8A-E6D9-4BE5-83D9-56E3C58A1B04}" type="slidenum">
              <a:rPr b="0" lang="en-NZ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1 Springbok Tour Protes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5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 timeline of ev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3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our postpon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4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Christchurch hosted the Commonwealth G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Black South African nations threatened to boycott the games if the tour in 1973 went ah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5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Robert Muldoon said the National government would welcome a tour of the Springboks to New Zea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6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All Blacks tour to South Af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Black African nations boycott the Montreal Olympic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Soweto rio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7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Commonwealth heads of state mee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Gleneagles Agre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80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Rugby Football Union invite Springboks to tour New Zealand in response to Muldoon's attitude towards Keep Politics Out Of 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John Minto national organiser for Halt Against Racist T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19 July Springboks arrived for the tou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2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Gisbor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5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Hamil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9 July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Molesworth Street, Wellington protest viol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First official series – South Africa played in New Zea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5 August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First test in Christchu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29 August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Second test in Wellingt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2 September 1981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hird test in Auck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Teams selected on the bias of race, due to Apartheid, up until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Rugby went profess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48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Apartheid becomes a legal system, under National Government led by Daniel Mala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50s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considered peaceful, prosperous and integr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0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“</a:t>
            </a: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o Maori, no tour” - petition signed against sending a race-based tea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8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United Nations called for a sporting boycott against South Af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69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Halt Against Racist Tours was founded by University of Auckland stud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1970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Rugby Football Union did not select Maori players to tour South Africa up until this ti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ew Zealand tour to South Africa – multiracial team because Maori were considered as 'honourary whites'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Times New Roman"/>
              </a:rPr>
              <a:t>1972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Arial"/>
                <a:ea typeface="AR PL UMing HK"/>
              </a:rPr>
              <a:t>Norman Kirk, Labour opposition leader, promised not to interfere with the 1973 Tour in the lead up to the elec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04:32:19Z</dcterms:created>
  <dc:creator>amiles </dc:creator>
  <dc:description/>
  <dc:language>en-US</dc:language>
  <cp:lastModifiedBy/>
  <cp:lastPrinted>2012-07-22T20:00:46Z</cp:lastPrinted>
  <cp:revision>1</cp:revision>
  <dc:subject/>
  <dc:title/>
</cp:coreProperties>
</file>